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9BF-9D38-4102-8724-DA5B7C30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DFA-2F8E-4907-A664-C8824233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DCC-2BBC-4C70-83AC-0FF358BA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36A-B8C9-4C4D-88FF-14A65368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BF7-93DF-454F-A5A1-BDF7FD80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6BF-0698-4F3E-8C7E-ED07C3D8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435-3827-47EC-BCDD-475D9D98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637-1423-49F3-9B54-19079420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96F-9531-481F-9D7B-3EE3170A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F1A-23CE-4118-B2B9-4802855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CDF-7630-41F3-A887-70529347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287-DCA0-4FCA-963B-D2ED73FE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C572-3530-49BA-B392-BA7A7A5CD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r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ar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ar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ar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ar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ar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r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r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ar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ar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r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Mar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ar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r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ar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r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r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ar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ar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10:09Z</dcterms:created>
  <dc:creator>fabio.medessi</dc:creator>
  <dc:description/>
  <dc:language>en-US</dc:language>
  <cp:lastModifiedBy>fabio.medessi</cp:lastModifiedBy>
  <dcterms:modified xsi:type="dcterms:W3CDTF">2010-07-20T08:10:15Z</dcterms:modified>
  <cp:revision>1</cp:revision>
  <dc:subject/>
  <dc:title>Presentazione di PowerPoint</dc:title>
</cp:coreProperties>
</file>